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8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5.gif" ContentType="image/gif"/>
  <Override PartName="/ppt/media/image9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gif" ContentType="image/gif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D2E9-3E80-446A-B77E-96C893015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C337-6ACA-47D1-907C-A55C9A078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356F-1540-42EA-A70E-88DFF583B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88A9-F5DB-49B9-AA38-97DB15CF5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DE0E-04DE-4DEC-BB4A-922C659373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434D-DBA1-4B98-B67D-53D186CD1E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3550-3CF1-41C4-8BC4-863B4AE031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CCCE-4956-4AFB-BB0F-641E35F7C7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0266-A20B-496F-B16C-7BD6AF6947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87B4-59B3-4EFB-8991-B8521C99CB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0222-FBB7-4CA6-84DA-6F9A287E12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49C0-0ECC-4F91-9F69-7BE18718C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12BEF-C266-43FC-A9DE-6A4F858CD9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3942-3C85-4D97-87B8-38CF22B75D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F322-E4A9-46B2-A352-08DFD20A7E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3A73-3296-486C-A99F-E12D283004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5A20-811E-4BE7-BA38-18E9B127EF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A1E-8C3F-4687-B0E6-B31E38E771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E58-8C4C-4994-83F0-0B022B20A3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D9B-0845-437E-B073-9D4634C48D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B1E-CCB6-4B76-BAED-299F0C7659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A2E-188C-4EF6-BFFA-6792CEA2F6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C1F0-576A-4102-AA78-BF104955D5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758-382D-4B38-A530-58E726465A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935-FEE2-4800-BC98-502E3C91E4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BB9-B15F-4A23-9A9A-7570722E6F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511-16EF-4FD1-9D37-7A31649121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C13-B751-4C27-8DB0-53265B2682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35F-F01E-43B9-9843-8A716B23FF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039-5691-479D-87D8-A8A91D702F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556F9-1C88-49FD-9372-6EA2E5E012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6DC63-B753-415F-9C4A-D9355D150F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8F223-2908-4D12-A523-3FCC85598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C086-2FF0-47D1-98F7-040C808662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EBE24-FDC9-4E90-AA6B-150FE2E0ED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060BF-C77D-4F92-ACCA-3C9491FCED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4EBAF-4CB8-42EB-B6CB-F5942176CC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6E242-2122-4BB5-9009-028285BDEB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A9D9E-DC8D-4F40-A20E-C74C50F5EB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9711D-5369-4DFD-AEA8-4152CE6EC4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F9D14-EF16-4181-9774-0CAA1CB181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5B85D-5C87-4A5D-9B66-BE0A9ADBE6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0167A-8AC6-412B-8FC9-655B86C3A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D02B-2ED3-4EDB-A23A-CC2F6CFEC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A3D2-45A7-4FAC-91C4-37D21E184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7346-1BA0-45E1-B546-E007D46B9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5D5A-B2F6-4105-BF45-025624978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3E9E-D8CD-4C1C-BCFE-72E52517C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6713-BCEF-4F6A-A17F-1CFBC9AE6542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EE1C-CC81-4058-8294-7C52251F9917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75248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" indent="-2844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28440" indent="-2844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8440" indent="-2844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440" indent="-28440" algn="ctr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440" indent="-28440" algn="ctr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440" indent="-28440" algn="ctr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BF47-70BC-45C0-9643-362F2A4CDC97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82" name="Picture 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5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4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38D7-969A-4F1E-AE95-0D6B191DEB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animationlibrary.com/a-l/?n=image.php3&amp;image_id=9118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Bell Ringer: 9-27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ost famous monument in Ancient Egypt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3917-B70E-4F6B-81F4-70D9CF5CE465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1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Kohl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Dark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paint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used to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outline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eye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3733920" y="3124080"/>
            <a:ext cx="236196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22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Mummification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The process of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preserving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body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f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dec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3809880" cy="3009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390528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2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Natron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natural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salt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4671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3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Obelisk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352680" y="17524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A tall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rectangular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pillar with a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pyramid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888840" y="1181160"/>
            <a:ext cx="22860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4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4fe"/>
                </a:solidFill>
                <a:latin typeface="Papyrus"/>
                <a:ea typeface="Papyrus"/>
              </a:rPr>
              <a:t>Ostracon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things that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drawing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text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were sketched on before final art work was comple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9343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4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Papyrus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A marsh, river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reed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sliced into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strip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pressed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together to make 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writing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su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3809880" cy="3443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5105520" y="2971800"/>
            <a:ext cx="360036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54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Pharaoh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ruler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of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Egy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990720" y="2782800"/>
            <a:ext cx="4343400" cy="3524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3"/>
          <a:stretch/>
        </p:blipFill>
        <p:spPr>
          <a:xfrm>
            <a:off x="5257800" y="2743200"/>
            <a:ext cx="30830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6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Pyramid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Royal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burial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site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during the Old and Middle Kingd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886200" cy="3047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3"/>
          <a:stretch/>
        </p:blipFill>
        <p:spPr>
          <a:xfrm>
            <a:off x="5181480" y="3240000"/>
            <a:ext cx="347688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6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Rosetta Stone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355640" y="1181160"/>
            <a:ext cx="4496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key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to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deciphering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Egyptian wr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23288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74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Sarcophagus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container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into which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coffin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mummie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were placed 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6" descr=""/>
          <p:cNvPicPr/>
          <p:nvPr/>
        </p:nvPicPr>
        <p:blipFill>
          <a:blip r:embed="rId2"/>
          <a:stretch/>
        </p:blipFill>
        <p:spPr>
          <a:xfrm>
            <a:off x="2286000" y="3809880"/>
            <a:ext cx="5486400" cy="24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TOC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1: Visual Vo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2: Vocab c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6102-E3DF-489E-9B90-DA048AA25183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80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4fe"/>
                </a:solidFill>
                <a:latin typeface="Papyrus"/>
                <a:ea typeface="Papyrus"/>
              </a:rPr>
              <a:t>Sphinx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statue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with 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body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f 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lion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and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head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f 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human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505320" cy="2895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3"/>
          <a:stretch/>
        </p:blipFill>
        <p:spPr>
          <a:xfrm>
            <a:off x="1295280" y="365760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8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Valley of the Kings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This sit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contained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tomb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f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King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, and their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familie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3962160" cy="2533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"/>
          <p:cNvPicPr/>
          <p:nvPr/>
        </p:nvPicPr>
        <p:blipFill>
          <a:blip r:embed="rId3"/>
          <a:stretch/>
        </p:blipFill>
        <p:spPr>
          <a:xfrm>
            <a:off x="4952880" y="3733920"/>
            <a:ext cx="388620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1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2440" tIns="50760" bIns="50760" anchor="ctr">
            <a:noAutofit/>
          </a:bodyPr>
          <a:p>
            <a:pPr marL="414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old"/>
              </a:rPr>
              <a:t>Word Splash…create on left side of Interactive Notebook.</a:t>
            </a:r>
            <a:endParaRPr b="0" lang="en-US" sz="4000" spc="-1" strike="noStrike">
              <a:solidFill>
                <a:srgbClr val="0033cc"/>
              </a:solidFill>
              <a:latin typeface="Arial Bol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65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Write the word you are def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efine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Give a synonym for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Give an antonym for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Write a sentence using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raw a picture to help you remember the wor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6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Amulet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magical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charm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carried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to fight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evil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r to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promote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343872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7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Afterlife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Life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after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death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74674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7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Ba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spirit”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=it leaves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body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at death, it can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freely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come and go from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tomb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990720" y="4029120"/>
            <a:ext cx="3657600" cy="2257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3"/>
          <a:stretch/>
        </p:blipFill>
        <p:spPr>
          <a:xfrm>
            <a:off x="5029200" y="3962520"/>
            <a:ext cx="35053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8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Cartouche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A ring surrounding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name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Ancient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Egyptian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kings and que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3"/>
          <a:stretch/>
        </p:blipFill>
        <p:spPr>
          <a:xfrm>
            <a:off x="5048280" y="3276720"/>
            <a:ext cx="3790800" cy="30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9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Dynasty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ancestor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f the sam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family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. Ancient Egypt is divided into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30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dynas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3353040" cy="2908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3"/>
          <a:stretch/>
        </p:blipFill>
        <p:spPr>
          <a:xfrm>
            <a:off x="4876920" y="3276720"/>
            <a:ext cx="373356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8743296" presetSubtype="1332248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00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Hieroglyphics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Picture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wri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4496040" cy="3184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3"/>
          <a:stretch/>
        </p:blipFill>
        <p:spPr>
          <a:xfrm>
            <a:off x="5791320" y="2590920"/>
            <a:ext cx="2762280" cy="3619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72400" y="1219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0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Ka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308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5308"/>
                </a:solidFill>
                <a:uFillTx/>
                <a:latin typeface="Times New Roman Bold"/>
                <a:ea typeface="Times New Roman Bold"/>
              </a:rPr>
              <a:t>life</a:t>
            </a:r>
            <a:r>
              <a:rPr b="0" lang="en-US" sz="3200" spc="-1" strike="noStrike">
                <a:solidFill>
                  <a:srgbClr val="ff5308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5308"/>
                </a:solidFill>
                <a:uFillTx/>
                <a:latin typeface="Times New Roman Bold"/>
                <a:ea typeface="Times New Roman Bold"/>
              </a:rPr>
              <a:t>force</a:t>
            </a:r>
            <a:r>
              <a:rPr b="0" lang="en-US" sz="3200" spc="-1" strike="noStrike">
                <a:solidFill>
                  <a:srgbClr val="ff5308"/>
                </a:solidFill>
                <a:latin typeface="Times New Roman"/>
              </a:rPr>
              <a:t> of a </a:t>
            </a:r>
            <a:r>
              <a:rPr b="0" lang="en-US" sz="3200" spc="-1" strike="noStrike" u="sng">
                <a:solidFill>
                  <a:srgbClr val="ff5308"/>
                </a:solidFill>
                <a:uFillTx/>
                <a:latin typeface="Times New Roman Bold"/>
                <a:ea typeface="Times New Roman Bold"/>
              </a:rPr>
              <a:t>human</a:t>
            </a:r>
            <a:r>
              <a:rPr b="0" lang="en-US" sz="3200" spc="-1" strike="noStrike">
                <a:solidFill>
                  <a:srgbClr val="ff5308"/>
                </a:solidFill>
                <a:latin typeface="Times New Roman"/>
              </a:rPr>
              <a:t> be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1141560" y="3200400"/>
            <a:ext cx="2338200" cy="2362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3"/>
          <a:stretch/>
        </p:blipFill>
        <p:spPr>
          <a:xfrm>
            <a:off x="3505320" y="251460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4"/>
          <a:stretch/>
        </p:blipFill>
        <p:spPr>
          <a:xfrm>
            <a:off x="6248520" y="3733920"/>
            <a:ext cx="2590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TylerDaughtry</cp:lastModifiedBy>
  <dcterms:modified xsi:type="dcterms:W3CDTF">2013-09-27T14:39:29Z</dcterms:modified>
  <cp:revision>3</cp:revision>
  <dc:subject/>
  <dc:title>Ancient Egypt Vocabulary Words</dc:title>
</cp:coreProperties>
</file>